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343080" indent="-343080">
              <a:lnSpc>
                <a:spcPct val="98000"/>
              </a:lnSpc>
              <a:spcBef>
                <a:spcPts val="113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-club.org/~alex/os2/toolkits/uls/index.html" TargetMode="External"/><Relationship Id="rId2" Type="http://schemas.openxmlformats.org/officeDocument/2006/relationships/hyperlink" Target="http://www.unicode.org/" TargetMode="External"/><Relationship Id="rId3" Type="http://schemas.openxmlformats.org/officeDocument/2006/relationships/hyperlink" Target="http://www.borgendale.com/uls.htm" TargetMode="External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An Introduction to the OS/2 Unicode AP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Alex Tay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arpstock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arpstock Europ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CS-2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CS-2 is the original Unicode encoding.  Introduced back in the days when UCS only defined 65,536 characters (Plane 0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Fixed-width encoding: 2 bytes per character (supporting the value range 0 - 65,535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dvantages: simple, makes data processing eas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isadvantages: not backwards-compatible with ASCII; only supports Plane 0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Officially considered obsolete, but still used by some implementa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(The OS/2 Unicode APIs use UCS-2 internally.)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CS-4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9000"/>
          </a:bodyPr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CS-4 was introduced to replace UCS-2 when Unicode was expanded to 1,114,112 characters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Fixed-width encoding: 4 bytes per character, supporting the entire range of UCS values (and then some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dvantages: simple, makes data processing easy; supports entire UCS codespac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isadvantages: requires a huge amount of storage; not backwards-compatible with ASCII, or even with UCS-2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arely used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Nowadays, UCS-4 is more commonly called “UTF-32”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Problems with Fixed-Width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13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nce the UCS codespace was expanded to 17 planes, fixed-width character encoding became impractical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Four bytes per character is wasteful, especially since (in practice) most characters fall within Plane 0 (BMP).  (See example.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ost Unicode libraries were originally designed to use two-byte characters (UCS-2); redesigning them for four-byte characters (UCS-4) can break compatibilit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Fixed-width multi-byte encodings are not compatible with ASCII data streams (which are widely used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CS-4 isn't even compatible with UCS-2 data streams!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better solution: variable-width encoding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TF-16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ntended to seamlessly replace UCS-2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ses 2 bytes per character to encode characters within the BMP (U+0000 - U+FFFF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ses 4 bytes per character to encode characters outside the BMP (U+1FFFF and up).  Leading bytes of 4-byte characters always fall within the range U+D800 - U+DFFF, which are reserved within the BMP and so cannot start legal 2-byte character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ny legal UCS-2 character is also a legal UTF-16 character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dvantages: backwards-compatible with UCS-2; requires no more than 2 bytes to represent any BMP character; supports the entire UCS codespac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isadvantages: slightly more complex than UCS-2; still not backwards-compatible with ASCII data stream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TF-8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Possibly the most ingenious encoding of all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ses between 1 and 4 bytes for each character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1 byte for values U+0000 - U+007F (basic ASCII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2 bytes for values U+0080 - U+07FF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3 bytes for values U+0800 - U+FFFF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4 bytes for values U+10000 and up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 1-byte character always starts with a leading 0 bi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first byte of a multi-byte character always starts with a number of leading 1 bits equal to the number of bytes used (i.e. 110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xxxxx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, 1110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xxxx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or 11110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xxx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).  Following bytes always start with 10.  The remaining bits are used to encode the character valu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ll ASCII text (i.e. characters below U+0080) is also valid UTF-8 text!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TF-8 Encoding (cont.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t">
            <a:normAutofit/>
          </a:bodyPr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dvantages of UTF-8: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Backwards-compatible with basic ASCII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Supports the entire UCS codespace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Requires much less storage than UCS-4, and (on average)      slightly less than UCS-2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Every single byte in a data stream is instantly identifiable as a leading byte, a following byte, or a single-byte character (which helps prevent data corruption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isadvantages: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Relatively complex algorithm, resulting in higher processing overhead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TF-8 is typically used for text output and interchange, not for internal processing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code Under OS/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OS/2 implementation of Unicode uses UCS-2 for internal processing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haracters outside the BMP are not supported (AFAIK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S/2 supports three Unicode encodings: UCS-2, UTF-8, and UPF-8 (an OS/2-specific proprietary implementation used for output under PM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OS/2 Unicode API (Universal Language Support) is available under Warp 4 and up, or Warp 3 with a recent FixPak.  (Some versions of the Java 1.1.8 runtime package will also install or update it as needed.)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he Unicode AP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OS/2 Unicode functions (a.k.a. “Universal Language Support”) cover four major categori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code Text Processing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handling Unicode (UCS-2) tex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Conversion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ing text to and from Unicode, or from one codepage to another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Localization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presenting information according to national or cultural conven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Keyboard Input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ing keyboard input to and from Unicode according to different keyboard layout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sing the Unicode AP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Header fil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unidef.h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 main API definitions (text processing &amp; localization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uconv.h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sion API definition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unikbd.h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keyboard API definition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mport libraries (when using the IBM Toolkit)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libuls.lib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text processing &amp; localization function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libconv.lib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sion function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 Mono"/>
              </a:rPr>
              <a:t>unikbd.lib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keyboard functions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Representing Unicode Text: UniCha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ll Unicode text is encoded internally as UCS-2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Unicode character is represented by the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UniChar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data type (a two-byte integer value)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typedef unsigned short UniChar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UniChar is also sometimes referred to as a “UCS code element”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hat You Ne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n OS/2 C compiler and Toolkit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Exercises will include directions for compiling with IBM C Compiler 3.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GCC 3.3.5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GCC 3.3.5 can be provided if necessar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t least a basic knowledge of C programming (recommended) or REXX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EXX support is somewhat limited; the extent of coverage will depend on class interes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Setting UniChar Valu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Directly assign the character's UCS value as an integer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UniChar uc = 0x0041;    // uppercase 'A' = U+0041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C wide-character conventions (assuming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wchar_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an unsigned short)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UniChar uc = L'A'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UniChar *puniStr = (UniChar *) L"Welcome to Warpstock"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printf("%lc\n", uc 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printf("%ls\n", puniStr 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nly use this technique when dealing with basic ASCII characters!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Setting UniChar Values (cont.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the codepage conversion function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trToUcs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UconvToUcs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will convert a multibyte string from any known codepage into a UniChar string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trFromUcs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UconvFromUcs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will convert a UniChar string into a multibyte string in the desired codepag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orking with UniChar Str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ake the string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nder a normal (ASCII-based) multibyte codepage, this string is represented by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 Mono"/>
              </a:rPr>
              <a:t>48 65 6C 6C 6F 20 77 6F 72 6C 64 0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s a UniChar string, it becom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00 48 00 65 00 6C 00 6C 00 6F 00 20 00 77 00 6F 00 72 00 6C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00 64 00 00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orking with UniChar Strings (cont.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9000"/>
          </a:bodyPr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Most standard string-handling functions treat a zero byte as a string termination character, and therefore will not handle this string correctl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s mentioned, C wide-character APIs can sometimes be used (where available). But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In practice, this is only possible with basic ASCII text (since these APIs cannot convert the Unicode values into meaningful characters for the current codepage).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lso, there is no way to use wide-character conventions in conjunction with (for instance) PM control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onsequently, ULS provides its own functions for handling UniChar text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code Input and Outpu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3629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n general, UniChar strings must be converted to another format before output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Convert to a Unicode encoding which is designed for output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UPF-8 (codepage 1207) - preferred for use under Presentation Manager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UTF-8 (codepage 1208) - preferred for data interchange (files, e-mail, etc.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0">
              <a:lnSpc>
                <a:spcPct val="98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is does not allow direct display in OS/2 text sessions.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Convert to another codepage.  This allows display of text in OS/2 window or full-screen sessions by converting to the current process codepag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onversely, input routines can accept text in the current codepage, and then convert it to UCS-2 for subsequent processing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code String Manipul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Most standard library functions cannot be used with UniChar text (due to embedded zero bytes). Therefore, ULS includes Unicode-enabled equivalents of several standard C library function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str*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functions of the standard string librar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character transformation functions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tolowe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touppe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n addition, several functions are provided for querying and transforming UniChar characters and strings in a locale-dependent wa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Exercise 1: </a:t>
            </a:r>
            <a:br>
              <a:rPr sz="4400"/>
            </a:b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sing UniChar Str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xercis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eview the sample program.  Make sure you understand what it doe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Verify that the program compiles and runs successfull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bjectives: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Verify compiler and toolkit setup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Verify program using ULS API can be compiled and run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 brief introduction to UniChar string manipulation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odepage Convers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421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ULS conversion functions allow text to be converted from any multibyte codepage into the equivalent strings in UCS-2 (UniChar) format, and vice versa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ext can also be converted from one multibyte codepage to another by going through UCS-2 as an intermediate step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Logical character value (not byte value) is preserved across codepages, whenever possibl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f a character does not exist in the target codepage, it is replaced by a designated "substitution character"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convObjec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UconvObjec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type is used to control conversions (in either direction) between UCS-2 and one particular codepag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CreateUconv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to create a UconvObject for the specified codepag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UconvObject uconv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UniCreateUconvObject( (UniChar *) L"IBM-850", &amp;uconv 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FreeUconv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when the UconvObject is no longer required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UniFreeUconvObject( uconv 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28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onversion Specifi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first parameter to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CreateUconv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a UniChar string called the conversion specifier: “</a:t>
            </a:r>
            <a:r>
              <a:rPr b="1" i="1" lang="en-CA" sz="2600" spc="-1" strike="noStrike">
                <a:solidFill>
                  <a:srgbClr val="000000"/>
                </a:solidFill>
                <a:latin typeface="Bitstream Vera Sans"/>
              </a:rPr>
              <a:t>&lt;codepage-name&gt;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[@][</a:t>
            </a:r>
            <a:r>
              <a:rPr b="1" i="1" lang="en-CA" sz="2600" spc="-1" strike="noStrike">
                <a:solidFill>
                  <a:srgbClr val="000000"/>
                </a:solidFill>
                <a:latin typeface="Bitstream Vera Sans"/>
              </a:rPr>
              <a:t>&lt;modifers&gt;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codepage name must be a legal OS/2 codepage identifer, normally in the form “IBM-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” wher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the codepage number.  Certain aliases are also defined (in 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 Mono"/>
              </a:rPr>
              <a:t>\LANGUAGE\CODEPAGE\UCSTBL.LS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), and some constants are provided in 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 Mono"/>
              </a:rPr>
              <a:t>uconv.h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MapCpToUcsCp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will generate a legal codepage name from the specified codepage number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hat is Unicod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nicode is a character standard designed to allow all possible characters from all known writing systems to be represented on computer systems in an interchangeable form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efines implementation requirements such as encoding formats, bidirectional algorithms, rendering of composite characters, etc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ssigns every character a unique numeric value between 0 and 1,114,111.  This assignment is known as the Universal Character Set (UC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terms “UCS” and “Unicode” are usually used interchangeabl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onversion Modifi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optional modifers define certain attributes of the conversion object (separated by commas).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map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Defines how control bytes should be treated during conversion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Default: “map=data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path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Indicates whether strings are assumed to contain paths (DBCS only)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Default: “path=yes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endian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Indicates the UCS-2 byte order (endian) to use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Default: “endian=system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sub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Indicates whether character substitution is enabled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Default: “sub=from-ucs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subchar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Indicates the substitution character to use in codepage strings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(Default varies by codepage.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subuni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Indicates the substitution character to use in UCS-2 strings. 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Default: “subuni=\xFFFD”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Performing Convers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nce you have a UconvObject, you can two different sets of functions to perform the conversion(s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trToUcs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trFromUcs(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UconvToUcs() 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UconvFromUcs(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Str*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functions are easier to use; however, th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Uconv*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functions allow for slightly more flexible error-checking and recover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Str*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functions were not available in the first versions of the Unicode API; they were added in an early Warp 4 FixPak (and a late Warp 3 FixPak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StrToUcs / UniStrFromU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StrToUcs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StrFromUcs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use a fairly simple syntax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onversion is atomic: it either succeeds or it fails (reflected in the return code).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Substitution is always performed (regardless of the conversion modifers used to create the UconvObject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Parameter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convObjec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Output buffer (must be already allocated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Input string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Length of output buffer (in characters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UconvToUcs / UniUconvFromU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UconvToUcs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UconvFromUcs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use a fairly complex syntax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n error may cause conversion to stop part-way through, and more information is available to allow error recovery.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Parameter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UconvObject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ointer to input string (must already be allocated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ointer to input string length (in characters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ointer to output buffer (must already be allocated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ointer to output buffer length (in characters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ointer to number of substitutions mad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Output Buffer Lengt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115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output buffer must be large enough to contain all converted characters, plus NULL.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When converting to UCS-2, the UniChar output buffer will never be longer (in UniChars) than the length of the input buffer (in bytes), not including the terminating NULL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When converting from UCS-2, the output string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may be longer 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an the UniChar input string, if the target codepage allows 2-, 3-, or 4-byte character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If you know the target codepage contains only single-byte characters, the output buffer length may be the same as the input length (not including the terminating NULL)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69360" indent="-21132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If the character width of the target codepage is undetermined, you should allocate at least 4 output bytes per input UniChar, because OS/2 MBCS codepages may represent a single character using up to 4 bytes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haracter Substitu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2819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f the input string contains characters that do not exist under the target codepage, the character is (normally) replaced in the output string by a generic “substitution character”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very codepage has its own default substitution character (which may be changed through the UconvObject attributes).  It should always be a displayable glyph under the target codepag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f substitution is disabled (through the UconvObject attributes), an error condition will be returned whenever an unsupported character is encountered.  (Applies to th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Uconv*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functions only.)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Exercise 2: </a:t>
            </a:r>
            <a:br>
              <a:rPr sz="4400"/>
            </a:b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odepage Convers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xercis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eview the example program(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odify the example program to convert the input text to UTF-8 instead of HTML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bjectiv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emonstrate the conversion proces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Illustrate the difference between the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tr*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Uconv*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func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Localiz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Localization is based on the concept of a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locale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: a set of conventions associated with a particular language or culture that specifies how information should be presented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se conventions include such things a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names of the country and language normally associated with the loca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default currency uni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standard number forma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standard time and date forma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standard units of measuremen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default codepage(s) associated with the loca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ules for text classification and transformation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How Locales Work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4216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Locales are used for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etermining character types or text transformation rules when using certain Unicode func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odifying application behaviour as appropriate for the current environmen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re are two types of local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System locales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standard locale constants defined by OS/2.  They cannot be modified or deleted.  System locales exist for every country and language known to OS/2, and are used to identify standardized conven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ser locales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customizable locale instances which may be created, modified, and/or deleted. User locales are derived from system locales, but represent the user's own preferences rather than generic standard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Identifying Loca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LocaleObjec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used as a handle to a specific locale.  A variable of this type is passed to certain functions in order to identify the locale being used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CreateLocale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used to initialize a LocaleObject for the specified local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locale is usually identified by UCS-2 name (“en_US”, “de_DE_EURO”, etc.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Specifying an empty string will create a locale based on the current environment settings (e.g %LANG%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LocaleObject should be freed using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FreeLocale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once it is no longer needed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Versions of Unico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9000"/>
          </a:bodyPr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Unicode standard is maintained by the Unicode Consortium, and is currently up to version 5.0 (released July 2006).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Version 1.0 was released in 1991 and supported 65,536 character codepoints (28,302 of which were assigned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55000" indent="-28440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Starting with version 2.0, the codespace was expanded to 17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planes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, each supporting 65,536 codepoints, for a total codespace of 1,114,112 possible characters (but the additional planes were not actually used until version 3.1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7320" indent="-32040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Universal Character Set is also published on its own by the International Organization for Standardization as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ISO/IEC 10646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Identifying Locales (cont.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QueryLocaleLis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can be used to query the names of all existing locales (system, user, or both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MapCtryToLocale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returns the locale name corresponding to the specified country cod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QueryLocale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can be used to obtain the locale name associated with an existing LocaleObject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Getting Locale Inform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very locale consists of a fixed number of key-value pairs, known as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locale items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, which describe the conventions for that local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ach locale item is referred to by a key constant. The prefix indicates the data typ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CI_s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,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CI_j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, and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CI_w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indicate string value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CI_i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CI_x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indicate integer value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o query the value of a specified locale item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LocaleItem() 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writes the current value of any locale item to a string variab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LocaleValue() 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writes the current value of an integer locale item to an integer variab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he Locale Conventions 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locale conventions structure (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struct UniLconv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) contains information about how numbers and currency values are represented by a local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It is designed to be analogous to the C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lconv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structure (returned by th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localeconv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library function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is structure may be obtained for a specified locale using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QueryLocaleInfo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orking With User Loca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2009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r locales are used to represent locally-configured preferences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Normally, user locales are created and modified by the user through the OS/2 Locale applet.  However, it can also be done programmaticall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MakeUserLocale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creates a new user locale, by copying an existing locale (system or user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DeleteUserLocale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deletes a user loca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etUserLocaleItem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modifies individual items within a user loca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hanges do not take effect outside the current process until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CompleteUserLocale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called.  This function writes all user locales to disk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Exercise 3:</a:t>
            </a:r>
            <a:br>
              <a:rPr sz="4400"/>
            </a:b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Getting Locale Inform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xercis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eview the example program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odify this program to display selected items from each locale (e.g. the associated country and language name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emonstrate how to identify and query locale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Character Attribut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 character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attribute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(or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classification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) describes categories to which a character belongs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ttributes include standard POSIX types like “alpha” and “digit”, but also extended Unicode types like “ideograph” and “nonspacing”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re are also attributes for describing text layout, and others indicating the specific Unicode character sets to which a character belongs.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Attribute Names and Identifi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very attribute has a integer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identifier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(referenced by symbolic constant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Most (though not all) attributes also have a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name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, which is a human-readable UniChar string. 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QueryAttr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may be used to obtain the identifier value associated with an attribute name.  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Attribute Categori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Character attributes are grouped into several different categori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Character type attributes (names start with a lowercase letter):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POSIX types (identifier symbols start with </a:t>
            </a:r>
            <a:r>
              <a:rPr b="1" lang="en-CA" sz="1800" spc="-1" strike="noStrike">
                <a:solidFill>
                  <a:srgbClr val="000000"/>
                </a:solidFill>
                <a:latin typeface="Bitstream Vera Sans"/>
              </a:rPr>
              <a:t>CT_</a:t>
            </a: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Extended types (identifier symbols start with </a:t>
            </a:r>
            <a:r>
              <a:rPr b="1" lang="en-CA" sz="1800" spc="-1" strike="noStrike">
                <a:solidFill>
                  <a:srgbClr val="000000"/>
                </a:solidFill>
                <a:latin typeface="Bitstream Vera Sans"/>
              </a:rPr>
              <a:t>C3_</a:t>
            </a: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8000"/>
              </a:lnSpc>
              <a:spcBef>
                <a:spcPts val="28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Win32 compatibility types (identifier symbols start with </a:t>
            </a:r>
            <a:r>
              <a:rPr b="1" lang="en-CA" sz="1800" spc="-1" strike="noStrike">
                <a:solidFill>
                  <a:srgbClr val="000000"/>
                </a:solidFill>
                <a:latin typeface="Bitstream Vera Sans"/>
              </a:rPr>
              <a:t>C1_</a:t>
            </a:r>
            <a:r>
              <a:rPr b="0" lang="en-CA" sz="1800" spc="-1" strike="noStrike">
                <a:solidFill>
                  <a:srgbClr val="000000"/>
                </a:solidFill>
                <a:latin typeface="Bitstream Vera Sans"/>
              </a:rPr>
              <a:t>; no names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Character set attributes (names start with “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_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Layout/BIDI attributes (names start with “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#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Localized Attribut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n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AttrObjec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used to represent attributes in a locale-specific context.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CreateAttrObject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creates an AttrObject for the specified attribute(s) and local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FreeAttrObject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frees an AttrObject when it is no longer needed.  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CharAtt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queries a UCS-2 character's attributes using an AttrObjec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ScanForAtt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searches a UniChar string for characters matching the specified AttrObjec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Standard POSIX attributes may be queried using various </a:t>
            </a: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*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functions (similar to the C “ctype” function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Locale-Independent Attribute Function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re are several functions which may be used query attributes independently of locale.   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Cha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is used to determine whether a single UCS-2 character has the specified POSIX or Win32 character-type attributes (CT_* or C1_*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StringType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returns an array of integer bitmasks for a UniChar string, where each bitmask describes the attributes (in the requested category) of a single character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QueryCharType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returns all the attributes of a single UCS-2 character in a </a:t>
            </a: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UNICTYPE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data structure. 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hy Unicode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ncoding characters by codepage has many disadvantag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Each codepage only supports one or two character sets (usually basic Latin and up to one other) – difficult to support multiple languages simultaneously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ifferent computer platforms tend to use different codepages, even to represent the same character sets (e.g. IBM 850 vs Windows 1252) – complicates data interchang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BCS codepages tend to use relatively crude variable-width encoding that makes string parsing difficult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oo many codepages, not enough standardization!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ransforming Tex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LS provides various functions for transforming UniChar strings in locale-specific ways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TransLowe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converts text to lowercas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TransUppe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converts text to uppercas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Bitstream Vera Sans"/>
              </a:rPr>
              <a:t>UniTransformStr()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 performs advanced string transforma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Note that the input and output strings are not guaranteed to be the same length.  Make sure you provide a large enough buffer!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XformObjec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An 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XformObject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is used to define a transformation, for use with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TransformStr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.  It has two attribut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transformation type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he locale being used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CreateTransform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to create an XformObject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 </a:t>
            </a:r>
            <a:r>
              <a:rPr b="0" i="1" lang="en-CA" sz="2600" spc="-1" strike="noStrike">
                <a:solidFill>
                  <a:srgbClr val="000000"/>
                </a:solidFill>
                <a:latin typeface="Bitstream Vera Sans"/>
              </a:rPr>
              <a:t>UniFreeTransformObject()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 to dispose of it when don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ransformation Typ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1692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following transformation types are valid for all locale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lower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text to lowercas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upper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text to uppercase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compose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character-diacritic combinations into single glyph form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decompose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diacritical forms into separate characters and diacritics (combining mark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hiragana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Japanese phonetic characters into Hiragana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katakana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Japanese phonetic characters into Katakana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Bitstream Vera Sans"/>
              </a:rPr>
              <a:t>kana</a:t>
            </a: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:  Convert Japanese phonetic characters into half-width Katakana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Exercise 4:</a:t>
            </a:r>
            <a:br>
              <a:rPr sz="4400"/>
            </a:b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ransforming Tex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Exercis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Review the example program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odify this program to remove all accents from the string (i.e. convert accented characters into non-accented ASCII characters)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Demonstrate Unicode text transformations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Additional Inform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OS/2 Toolkit documentation is obsolete and/or incomplete.  Project to provide updated documentation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http://www.cs-club.org/~alex/os2/toolkits/uls/index.html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General Unicode information is available from the Unicode Consortium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 u="sng">
                <a:solidFill>
                  <a:srgbClr val="ccccff"/>
                </a:solidFill>
                <a:uFillTx/>
                <a:latin typeface="Bitstream Vera Sans"/>
                <a:hlinkClick r:id="rId2"/>
              </a:rPr>
              <a:t>http://www.unicode.org/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seful information &amp; samples from one of the OS/2 Internationalization developer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 u="sng">
                <a:solidFill>
                  <a:srgbClr val="ccccff"/>
                </a:solidFill>
                <a:uFillTx/>
                <a:latin typeface="Bitstream Vera Sans"/>
                <a:hlinkClick r:id="rId3"/>
              </a:rPr>
              <a:t>http://www.borgendale.com/uls.htm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0">
              <a:lnSpc>
                <a:spcPct val="98000"/>
              </a:lnSpc>
              <a:spcBef>
                <a:spcPts val="1137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Why Unicode (cont.)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Why use Unicode in your application?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Access to a wide range of text-manipulation functions which are independent of language or encoding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Multiple character sets can be supported simultaneously, even in a single output stream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Text can be converted to almost any encoding on demand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CS Character Valu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Unicode (UCS) character values (or codepoints) are traditionally written as “</a:t>
            </a:r>
            <a:r>
              <a:rPr b="1" lang="en-CA" sz="2600" spc="-1" strike="noStrike">
                <a:solidFill>
                  <a:srgbClr val="000000"/>
                </a:solidFill>
                <a:latin typeface="Bitstream Vera Sans"/>
              </a:rPr>
              <a:t>U+*</a:t>
            </a: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”, where * is the character's value in hexadecimal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Values U+0000 (0) through U+007F (127) correspond to the standard ASCII character set.  It is therefore easy to convert these characters to and from Unicode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Values U+0080 (128) through U+00FF (255) correspond to the ISO Latin-1 extensions.  This means that the UCS character mapping of U+0000 through U+00FF corresponds exactly to ISO-8859-1 (codepage 819)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The UCS Codesp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8000"/>
          </a:bodyPr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Universal Character Set encompasses 17 planes, each containing 65,536 codepoints: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lane 0 (U+0000 - U+FFFF): Basic Multilingual Plane (BMP) 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lane 1 (U+10000 - U+1FFFF): Supplementary Multilingual Plane (SMP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lane 2 (U+20000 - U+2FFFF): Supplementary Ideographic Plane (SIP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lane 14 (U+E0000 – U+EFFFF): Supplementary Special-Purpose Plane (SSP)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46360" indent="-28152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Planes 15 &amp; 16 (U+F0000 - U+10FFFF): Supplementary Private Use Area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marL="423000" indent="-31716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he BMP contains most characters in use around the world today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333333"/>
                </a:solidFill>
                <a:latin typeface="Arial"/>
              </a:rPr>
              <a:t>Unicode Character Encod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Problem: how can a computer represent each character, consistently and unambiguously, as an integer value between 0 and 1,114,111?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Traditionally, 1 byte = 1 character.  But this only allows 256 values – far too small for the UCS codespace!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marL="431640" indent="-323640">
              <a:lnSpc>
                <a:spcPct val="98000"/>
              </a:lnSpc>
              <a:spcBef>
                <a:spcPts val="1137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Bitstream Vera Sans"/>
              </a:rPr>
              <a:t>Simplest solution: increase the number of bytes per character.</a:t>
            </a:r>
            <a:endParaRPr b="0" lang="en-US" sz="26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First implemented in UCS-2 encoding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8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Bitstream Vera Sans"/>
              </a:rPr>
              <a:t>Later expanded to UCS-4 encoding.</a:t>
            </a:r>
            <a:endParaRPr b="0" lang="en-US" sz="2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6:21:57Z</dcterms:created>
  <dc:creator>Alex Taylor</dc:creator>
  <dc:description/>
  <dc:language>en-US</dc:language>
  <cp:lastModifiedBy>Alex Taylor</cp:lastModifiedBy>
  <dcterms:modified xsi:type="dcterms:W3CDTF">2006-10-27T23:53:40Z</dcterms:modified>
  <cp:revision>21</cp:revision>
  <dc:subject/>
  <dc:title/>
</cp:coreProperties>
</file>